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CCFE-4B91-4485-8D7A-A60FA6227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DB44-B0D7-42F7-8F7F-5C631F7E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F083-D74A-4D1C-B66D-D85C6696A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082E-32BB-47B2-901F-41882C6C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CED1-1179-4361-B0E6-34B06FF02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-19, 31-38, 47-50, 63-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50E9-EF51-432D-AA81-DF78F6B2D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-19, 31-38, 47-50, 63-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6B3C-FF20-4505-B20A-97EC18FF9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-36 e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8, 54, 60 #70-76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DB9F-7C31-4B7A-A798-521E70251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-36 ev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8, 54, 60 #70-76 e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A7FC-38D3-487F-8BAC-9A9D7CDC9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A588-2799-4FCA-8050-8AD56A05B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83CA-AA3A-4784-A759-3E4C05B5C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C7A8-037C-4C18-B854-6895234F5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FC16-A6AD-4A56-A216-248AAF513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9D0-0882-4181-94A4-9D918229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67E-9318-4D30-BD03-76D8E3E6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A79BF-ACEA-4617-B15A-F8AA3EF4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F23C7-318F-4DB4-8F0D-26F245A0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6FDCB-AEA8-47AD-807D-2E1AC8FA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EC3B9-0BD4-4617-B80B-2A7C9201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2C3C6-7A5B-4424-A2C4-BE50274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82C76-A7C7-4550-93AB-E3FD81D7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BC5FC-BAB2-4F7B-9A41-11C85AD6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C7D76-12D7-44E6-B696-121CF87E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2B7D7-61B2-4FED-98A3-6C6117C8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F53-235F-41A3-BBF6-42AA73D9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9B8-5ADA-4B54-B22C-9B943DBC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10C6-AD75-431A-A689-9D8A8278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D834-C34B-43E5-8535-3EF82099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308B-2860-4469-B26A-6B81A967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1255-8484-4415-876D-86944591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7D1A-4BD8-4A2C-BDA7-99950D2D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7A02-C618-4D54-B03A-051742CA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0246-E1E0-4B28-98DB-8649E50F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630B-A716-4E1A-AC24-C85032E6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01AE-9787-4ACB-A2D4-6E2FDEAB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3C1E-6ED8-4854-8923-94226772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B94D-3866-4772-B1A7-349E74CC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7B40-5E97-4F40-91AC-59E9B1C6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33D4-80D2-4CF8-9B52-19D07E4D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C6F6-478C-45EE-983F-88726F90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ED4A-B337-40AC-BC67-DF496D27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F6C5E-9BD7-49BB-A8E5-55474162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0B13-891F-49FF-B13D-E6FD2274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0DC90-58FB-443F-804B-B7DBCB2E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350-9195-48A0-8278-2F7E9667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E9DB-43E7-47A4-B588-DB469643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DC52-ECBB-4B12-B078-39C60720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E0C0-20C3-4854-A7FE-D6330DF5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5364-CF31-43A1-AA69-3CF757D1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23D27-7A76-4242-B66E-5449D320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7010-B548-4198-9509-AAD7CF86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C8D4-F6BC-4818-A7D9-CEE466BD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C34DE-901E-4803-A3AB-422589BE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3ADB-056F-49C6-97B4-D2762503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E70A-70FF-46F3-89CF-8D8493FB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5C1-7F5B-4982-AEE3-FBB1F816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D778-08B3-4855-BF46-368A5A12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C5FD0-EC28-4808-906A-1192F262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5607F-1E20-4B33-B9A1-187E4A6F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7FFD-220C-497E-B4F4-75A6B671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EFF0B-948E-4049-81ED-5A81025C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169D-5170-4A2B-A332-B1B08ADE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5CAF3-FC6E-4803-91B2-5A9E8681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0E841-E609-4A8D-8468-AE3CDF90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6128D-9EFA-4371-9CA6-2EB44323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3DE25-E46F-4AC4-865B-1B5517B5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AE5-B3A7-42D5-94A1-B2980C5F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0551-0E85-4E1B-8BB5-75635C59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A303A-6E87-4F5E-9D36-DAC5890A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38663-8DC0-4BC2-B4CF-E1606305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F9A25-35AA-444B-BC8F-F9258F9B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E8B09-DCBF-4350-BBC6-19361C11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3248C-CB92-44E6-9139-E2AD9F80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79C10-3FE6-4874-9914-F1F22EE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EEEB2-8016-4FB4-B1A6-22591C31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3198A-E6EF-477C-9050-721FF9D7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DD592-D695-4153-97E5-BA002849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983-B613-4A9D-B471-50684D5B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5D22C-4984-4ED8-83AF-AA41DBC6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A82F-310D-44EB-978E-F2B0CB85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99BA0-89E9-4065-9085-721563CC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2570B-A4BA-4F2D-9A71-85A691CD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4A4F6-C55A-4104-A2F0-41CC7630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29AD3-51BA-4502-8501-7643D3D3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92A90-526D-41BD-83A9-1036B7C7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7215D-74E1-45AC-AFB0-78709F63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99537-471B-474E-B0CF-9959783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3AFEF-4DC7-40C4-9D8A-3B023A65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175-A30D-4EC8-9CCB-C7EE0E88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CBFAA-1365-4F6B-B721-D9BBA4E2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4FD3F-406B-421B-84DF-6947112E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44D28-A5FD-4D94-A297-31AB32DF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2C0C1-14B9-4F44-89DD-15DBE021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B337A-FC41-47DF-AD5B-14519E20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C7911-98F4-4A35-A254-9BE5EB2F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71481-182E-468D-B23A-3DCC9874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83381-7815-426A-9BF7-FCF59B0D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5918B-1E8A-4D6A-9EF9-784BF844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328EA-8208-4644-8E93-10DD0DB7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1C6-1980-43D0-B1EA-A3165F67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F4FC-644A-4D21-91E2-1C92ED27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DF821-9617-4C60-AEFD-F78DF44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2A16F-F5E8-4840-946C-2EA49506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91F14-4935-473E-BB1A-C1230D54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124D-8E89-4B78-83CF-5A61E04D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39309-ADCC-4733-9AB7-F2ED4CE1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AF4E4-580E-4FB5-9EA8-D2BB108C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83C35-480F-4AE1-9110-F65DA9E8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20AAA-3DB9-417D-A2D7-19CECF63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C14C6-6B39-4CBE-ABB8-F4B663D9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C46-DA84-43E0-B9A5-959545A3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943D7-D452-46B1-9DFC-D24590DF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A6198-264A-48E2-B93E-92013EA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368EC-63D2-4ECE-97C9-63ED1C94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9A8E5-EC6B-4481-9B8B-57F2FE75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4A9F9-C3AE-4098-B914-0C499C1D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FFAD-C82D-41DC-9BAA-AEB8401C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5131A-23EC-4E28-9A8C-59F073CE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26A35-ECC0-4B4C-8C26-ABDAD106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4DF5C-D79E-4195-8451-C49C022D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0E30C-2C57-41D5-A5FC-7591875A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DC76-1145-4CB1-B5CE-D867F386F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FD9F-F5BD-4257-BDCC-25B9F57C8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2DFE-8D24-4997-91B2-2435B15F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6FAB-5ACA-445D-B69C-31C393BC2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E7CE-18B8-4D1F-A304-98D2F34D6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5F41-6461-4FCF-850F-A98264A85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993E-C9FE-4560-87FD-2983F937C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B75D-6098-4C64-86A5-C85E61D59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E64D-7995-4F76-A8DF-DC5BDF765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5: Rational Functions and Mode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20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Finding the asymptot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horizontal and vertical asymptot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990720" y="2765520"/>
            <a:ext cx="1981080" cy="892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"/>
          <p:cNvPicPr/>
          <p:nvPr/>
        </p:nvPicPr>
        <p:blipFill>
          <a:blip r:embed="rId2"/>
          <a:stretch/>
        </p:blipFill>
        <p:spPr>
          <a:xfrm>
            <a:off x="4952880" y="2616120"/>
            <a:ext cx="2286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e rational equat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each side by the denomin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norm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x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19-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5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5-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5-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3 answer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)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)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+2 + (1/(x+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)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x-2+ (4/(x-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)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+(1/(x+2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)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)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) -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) -4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)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)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) y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) 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)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3 answers page 2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7) f(x)= (x+4)(x-2)(x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) f(x)= -1(x+4)(x+1)(x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) f(x)= -1(x+8)(x+4)(x+2)(x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) f(x)= (x+5)(x+2)(x-1)(x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) f(x)= (x-1)(x-3)(x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) f(x)= 2(x+2)(x-5/2)(x+1) or (x+2)(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) f(x)= -4(x+4)(x-.75)(x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4 answer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 -2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) 3+37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) 5-21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) 15-4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) 35-15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) 5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) 14+5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) -5-12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) -20-21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) (-1/13) –(5/13)(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30) (10/17)+(40/17)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) -0.2 – 1.6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) -2-4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) 0.36+0.48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) (-1/6) ± (i√11)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4) (3/2) ± (i√11)/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) 0.5 ± 0.5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4 answer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) 2 imag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) 3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) 4 imag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6) 1 real, 4 imag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 rational function and its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interpret vertical asympt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and interpret horizontal asympt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ration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he properties of rational ex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ational function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where f = p(x)/q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1/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40384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Vertical asymptot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symptote: when the denominator is zero, there is a vertical asymptote at x=k, where k makes the denominator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990720" y="3200400"/>
            <a:ext cx="2057400" cy="1035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"/>
          <p:cNvPicPr/>
          <p:nvPr/>
        </p:nvPicPr>
        <p:blipFill>
          <a:blip r:embed="rId2"/>
          <a:stretch/>
        </p:blipFill>
        <p:spPr>
          <a:xfrm>
            <a:off x="3886200" y="274320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Horizontal asymptot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izontal asympt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&lt;m the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 is the horizontal asympt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=n then the line a/b is the horizontal asympto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n&gt;m, there will be no horizontal asympto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9:46:00Z</dcterms:created>
  <dc:creator>nuhs</dc:creator>
  <dc:description/>
  <dc:language>en-US</dc:language>
  <cp:lastModifiedBy>Ameena</cp:lastModifiedBy>
  <dcterms:modified xsi:type="dcterms:W3CDTF">2008-11-20T21:23:22Z</dcterms:modified>
  <cp:revision>15</cp:revision>
  <dc:subject/>
  <dc:title>4.5 and 4.7</dc:title>
</cp:coreProperties>
</file>